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65685-93C2-499E-AA34-F9D3121B26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28940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31179-3622-4902-B9F4-3A2E0842B9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2840" y="19807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2840" y="428940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7E9D2-75B4-4695-BB12-A3719D1D4D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8240" y="19807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50680" y="19807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28940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8240" y="428940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50680" y="428940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BD3A6-38A1-4E18-A297-906B36A649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0E9B1-6A61-4320-B6F9-124F375FD8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572D9-1464-4DA2-B703-A7171BCB7B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2840" y="198072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1E369-920A-495E-8012-B884830F7D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7D97E-113B-4D84-B3C8-E8C0CD72D7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B1303-F780-4D91-946E-3C330A147B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2840" y="198072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5485B-C4C2-4DD4-9A3E-62E5D274BC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2840" y="19807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2840" y="428940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DD065-7F6A-457D-A57D-37B8C02A29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2840" y="19807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45A51-FC14-490B-8337-CB4CC6E958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6477120"/>
            <a:ext cx="8686800" cy="228600"/>
          </a:xfrm>
          <a:prstGeom prst="rect">
            <a:avLst/>
          </a:prstGeom>
          <a:solidFill>
            <a:srgbClr val="a50021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320" y="0"/>
            <a:ext cx="8686800" cy="533520"/>
          </a:xfrm>
          <a:prstGeom prst="rect">
            <a:avLst/>
          </a:prstGeom>
          <a:solidFill>
            <a:srgbClr val="a50021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cc99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cc99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657240" y="6400440"/>
            <a:ext cx="2438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00"/>
                </a:solidFill>
                <a:latin typeface="Times New Roman"/>
              </a:rPr>
              <a:t>&lt;footer&gt;</a:t>
            </a:r>
            <a:r>
              <a:rPr b="0" lang="en-US" sz="1600" spc="-1" strike="noStrike">
                <a:solidFill>
                  <a:srgbClr val="cc9900"/>
                </a:solidFill>
                <a:latin typeface="Times New Roman"/>
              </a:rPr>
              <a:t>brad@sep.stanford.e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534160" y="6477120"/>
            <a:ext cx="609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FBDE-558E-46D6-BE60-8A86178B2A6E}" type="slidenum">
              <a:rPr b="0" lang="en-US" sz="1400" spc="-1" strike="noStrike">
                <a:solidFill>
                  <a:srgbClr val="cc99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8600" y="-61920"/>
            <a:ext cx="204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Times New Roman"/>
              </a:rPr>
              <a:t>Brad Artman</a:t>
            </a:r>
            <a:endParaRPr b="0" lang="en-US" sz="2800" spc="-1" strike="noStrike">
              <a:solidFill>
                <a:srgbClr val="cc99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Times New Roman"/>
              </a:rPr>
              <a:t>Passive seismic imaging</a:t>
            </a:r>
            <a:endParaRPr b="0" lang="en-US" sz="3200" spc="-1" strike="noStrike">
              <a:solidFill>
                <a:srgbClr val="cc99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Times New Roman"/>
              </a:rPr>
              <a:t>Aliasing in prestack wavefield continuation migration</a:t>
            </a:r>
            <a:endParaRPr b="0" lang="en-US" sz="3200" spc="-1" strike="noStrike">
              <a:solidFill>
                <a:srgbClr val="cc99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Times New Roman"/>
              </a:rPr>
              <a:t>Revisiting Linear Programming (Basis Pursuit)</a:t>
            </a:r>
            <a:endParaRPr b="0" lang="en-US" sz="3200" spc="-1" strike="noStrike">
              <a:solidFill>
                <a:srgbClr val="cc99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Times New Roman"/>
              </a:rPr>
              <a:t>Maricio Sacchi</a:t>
            </a:r>
            <a:endParaRPr b="0" lang="en-US" sz="28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D096E-BCB7-4132-9C76-C154385CC1A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5334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Times New Roman"/>
              </a:rPr>
              <a:t>Brad Artman</a:t>
            </a:r>
            <a:endParaRPr b="0" lang="en-US" sz="3200" spc="-1" strike="noStrike">
              <a:solidFill>
                <a:srgbClr val="cc99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Times New Roman"/>
              </a:rPr>
              <a:t>SEP114 page 359</a:t>
            </a:r>
            <a:endParaRPr b="0" lang="en-US" sz="3200" spc="-1" strike="noStrike">
              <a:solidFill>
                <a:srgbClr val="cc99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6858000" cy="5334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684760" y="-61920"/>
            <a:ext cx="31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Times New Roman"/>
              </a:rPr>
              <a:t>Linear Programming</a:t>
            </a:r>
            <a:endParaRPr b="0" lang="en-US" sz="28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17ACA-11E7-47A6-BBFB-92C80020A3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3T04:06:15Z</dcterms:created>
  <dc:creator>brad</dc:creator>
  <dc:description/>
  <dc:language>en-US</dc:language>
  <cp:lastModifiedBy>brad</cp:lastModifiedBy>
  <dcterms:modified xsi:type="dcterms:W3CDTF">2003-10-23T20:35:21Z</dcterms:modified>
  <cp:revision>58</cp:revision>
  <dc:subject/>
  <dc:title>PowerPoint Presentation</dc:title>
</cp:coreProperties>
</file>