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4CF-1510-4BF6-9715-7C3A052F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B26-7B36-41B0-ADC8-0AE7C216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4F1-B699-4ABF-8851-A6C1051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907-A126-4604-80F5-59E9EB6E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905-1E22-408A-83EB-007DD095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645-1D92-40D5-AA4D-2CE7A15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55D-2D99-44BF-A782-9F37F391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560-C88B-4B53-BEDC-9DFB844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2D4-9825-4AD2-93FD-B6D3A37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22B-5E9F-4A80-9838-FE5EB1B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340-341C-4506-BFC7-A15BB04B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B0E-C65E-4729-95BD-7E9CA80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907-1A55-4B97-B2E7-220061DA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 Cu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 data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on-stationary P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5080" y="5670720"/>
            <a:ext cx="24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 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___ -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___ -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3400" y="5791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: S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8:55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363" t="14800" r="7792" b="10853"/>
          <a:stretch/>
        </p:blipFill>
        <p:spPr>
          <a:xfrm>
            <a:off x="0" y="1981080"/>
            <a:ext cx="4487760" cy="347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6363" t="15786" r="7792" b="10853"/>
          <a:stretch/>
        </p:blipFill>
        <p:spPr>
          <a:xfrm>
            <a:off x="4600440" y="1981080"/>
            <a:ext cx="45435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5:55:50Z</dcterms:created>
  <dc:creator>Name</dc:creator>
  <dc:description/>
  <dc:language>en-US</dc:language>
  <cp:lastModifiedBy>Administrator</cp:lastModifiedBy>
  <dcterms:modified xsi:type="dcterms:W3CDTF">2003-10-22T17:43:25Z</dcterms:modified>
  <cp:revision>2</cp:revision>
  <dc:subject/>
  <dc:title>Bill Curry</dc:title>
</cp:coreProperties>
</file>