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345-9755-47FD-ACCA-14363B1D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EE3-2F42-4E92-8191-D0EA279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8C6-081E-444D-8D6F-EBDDEBB7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9E2-7FBE-4DCE-94C3-47A57C4D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C43-E7EC-4F33-9BA1-31F9D58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8A9-0B96-428C-A81C-7331F90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B53-2C4C-43EA-AD37-536B18E0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111-5830-45BE-93BC-56E442F2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843-28D3-4371-8607-24A97A81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064-2578-436B-8044-33E8182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E11-287B-48BF-B891-EDC5D67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37F-BDA3-4B1A-8180-C2D72F1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F96-1500-4C33-BCC4-54FD51382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48520" y="76320"/>
            <a:ext cx="838080" cy="81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60357" t="21869" r="8944" b="17159"/>
          <a:stretch/>
        </p:blipFill>
        <p:spPr>
          <a:xfrm>
            <a:off x="76320" y="0"/>
            <a:ext cx="2112840" cy="34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0" y="76320"/>
            <a:ext cx="2224080" cy="34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34040" y="3352680"/>
            <a:ext cx="2033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673720" y="1143000"/>
            <a:ext cx="31266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0002"/>
                </a:solidFill>
                <a:latin typeface="Times New Roman"/>
              </a:rPr>
              <a:t>Edu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as A&amp;M University (Dec.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 Geo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: Geology &amp; M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rcRect l="13440" t="14858" r="47412" b="24049"/>
          <a:stretch/>
        </p:blipFill>
        <p:spPr>
          <a:xfrm>
            <a:off x="76320" y="3198960"/>
            <a:ext cx="213516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83160" y="2946240"/>
            <a:ext cx="11638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tral Balan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600" y="6527880"/>
            <a:ext cx="1275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oustic Impe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664000" y="2697120"/>
            <a:ext cx="3749760" cy="1505520"/>
            <a:chOff x="2664000" y="2697120"/>
            <a:chExt cx="3749760" cy="1505520"/>
          </a:xfrm>
        </p:grpSpPr>
        <p:sp>
          <p:nvSpPr>
            <p:cNvPr id="50" name=""/>
            <p:cNvSpPr/>
            <p:nvPr/>
          </p:nvSpPr>
          <p:spPr>
            <a:xfrm>
              <a:off x="2664000" y="2697120"/>
              <a:ext cx="20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10002"/>
                  </a:solidFill>
                  <a:latin typeface="Times New Roman"/>
                </a:rPr>
                <a:t>Work Experience</a:t>
              </a:r>
              <a:r>
                <a:rPr b="0" lang="en-US" sz="2000" spc="-1" strike="noStrike">
                  <a:solidFill>
                    <a:srgbClr val="ff0003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05320" y="3048120"/>
              <a:ext cx="1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74440" y="3011400"/>
              <a:ext cx="373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rr McG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ismic attributes, wavelet trans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adarko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  prospec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hlumber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ic pic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erprise Oi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ismic interpre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5800" y="45417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0002"/>
                </a:solidFill>
                <a:latin typeface="Times New Roman"/>
              </a:rPr>
              <a:t>Inter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90920" y="152280"/>
            <a:ext cx="334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pperplate"/>
              </a:rPr>
              <a:t>Ingrid Cord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pperplate"/>
              <a:ea typeface="Copperplate"/>
            </a:endParaRPr>
          </a:p>
        </p:txBody>
      </p:sp>
      <p:sp>
        <p:nvSpPr>
          <p:cNvPr id="55" name=""/>
          <p:cNvSpPr/>
          <p:nvPr/>
        </p:nvSpPr>
        <p:spPr>
          <a:xfrm>
            <a:off x="2673720" y="4813200"/>
            <a:ext cx="226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t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ismic + roc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20:56:37Z</dcterms:created>
  <dc:creator>Bob Clapp</dc:creator>
  <dc:description/>
  <dc:language>en-US</dc:language>
  <cp:lastModifiedBy>Bob Clapp</cp:lastModifiedBy>
  <dcterms:modified xsi:type="dcterms:W3CDTF">2003-10-20T23:14:41Z</dcterms:modified>
  <cp:revision>3</cp:revision>
  <dc:subject/>
  <dc:title>PowerPoint Presentation</dc:title>
</cp:coreProperties>
</file>