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5E0-D156-474B-9256-18A00C1D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4C2-25F1-45DF-9382-FB2E2B1D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14B-231F-4E2C-8D76-871F9E9C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D27-30AF-463E-92F9-47177A6D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E30-BDC9-4789-940A-EDFF96F5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6C2-B3AC-4AE3-B00F-4C4A6858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959-8B44-41D2-A901-707D4E3A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F7C-F8F0-4C0E-B085-33A77211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B47-1CB4-4F2C-9994-C7EDAE8D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039-8FCB-4DA6-95B7-764B827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3BE-9297-4B6F-9C9D-4883624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E13-71A2-4CCE-A123-CCB321D6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4345-323B-4B74-9C9D-130002A49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sse Lo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8253" t="8623" r="6562" b="7458"/>
          <a:stretch/>
        </p:blipFill>
        <p:spPr>
          <a:xfrm>
            <a:off x="984240" y="1069920"/>
            <a:ext cx="7010280" cy="5558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602760" y="392040"/>
            <a:ext cx="11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4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g 193-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8253" t="8623" r="6562" b="7458"/>
          <a:stretch/>
        </p:blipFill>
        <p:spPr>
          <a:xfrm>
            <a:off x="985680" y="1068480"/>
            <a:ext cx="701208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22:50:08Z</dcterms:created>
  <dc:creator>jesse</dc:creator>
  <dc:description/>
  <dc:language>en-US</dc:language>
  <cp:lastModifiedBy>Administrator</cp:lastModifiedBy>
  <dcterms:modified xsi:type="dcterms:W3CDTF">2003-10-23T15:24:39Z</dcterms:modified>
  <cp:revision>5</cp:revision>
  <dc:subject/>
  <dc:title>Jesse Lomask</dc:title>
</cp:coreProperties>
</file>