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22372-F821-42C9-BD15-235393F2A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3C213-E03B-4696-843B-B399ED7E6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61DDC-6FBB-4B88-8E42-9FD0823F8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1B703-6660-41BA-9B9D-1CF1DE4567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D3F3-594A-4E2D-9499-5602AFFC88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79E2F-AB8C-4BD3-9084-F007EF27B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C87B7-7328-4D38-A68C-93F4DE2DD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4A521-70B3-48BB-B8F8-6C522A393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882D7-E183-4D72-A35F-47939F0FE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79F1F-6717-44D7-8BFF-C6354E84B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190AF-C7E5-41F4-9C48-94E0D0ED7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13A85-0191-482B-96B3-96211F7E3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83844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20" y="64911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Se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Ha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524720" y="649116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Electroseis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imes New Roman"/>
              </a:rPr>
              <a:t>Seth Haines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Developing experimental methods in electroseismic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05120"/>
            <a:ext cx="824544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velop experimental methods in electroseismics so th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thod can be a viable tool for exploration geophysic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ducting controlled field experiment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veloping signal/noise separation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pected completion: Sept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me see my post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1AA0F-30F5-4F0E-9EB2-D709EBDD4D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43000" y="990720"/>
            <a:ext cx="7086600" cy="5410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w 48-channel electroseismic field recor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84684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F49BC-5BC7-4400-A719-2AA0BF1435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ult after PEF-based signal/noise separ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990720"/>
            <a:ext cx="7086600" cy="5410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84684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4ED20-FEF4-4EAD-9745-C64BBE1ED9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02:37:37Z</dcterms:created>
  <dc:creator>Amanda Huggenkis</dc:creator>
  <dc:description/>
  <dc:language>en-US</dc:language>
  <cp:lastModifiedBy>Bryan Kerr</cp:lastModifiedBy>
  <dcterms:modified xsi:type="dcterms:W3CDTF">2003-10-23T00:53:40Z</dcterms:modified>
  <cp:revision>39</cp:revision>
  <dc:subject/>
  <dc:title>Signal/noise separation with non-stationary PEF’s</dc:title>
</cp:coreProperties>
</file>