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D34-1DA8-4518-B40F-D3CD23E4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2AF-ACB8-4967-9B29-B8735C54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26C-6468-4D22-A30A-51531AFC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7EF-BF7F-4CD6-85D0-13D89543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F02-238E-4195-AC2E-B5B9CF0E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E08-4E0D-4FC8-9FD4-D9A632BC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28C-0006-431B-BA10-9BE63540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6F1-68CA-4916-AE6D-EBE8B4F6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2B3-C87C-49FB-9860-7723F21F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87C-588A-4ED7-842C-F75B10F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779-F09A-489A-813A-4669472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3A1-8776-491C-A551-F7263CF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070A-B27D-476E-8711-7E80B10AD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020680"/>
            <a:ext cx="74977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3787560"/>
            <a:ext cx="6173640" cy="16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644400"/>
            <a:ext cx="8229600" cy="555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703440"/>
            <a:ext cx="190512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point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703440"/>
            <a:ext cx="190512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point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703440"/>
            <a:ext cx="182880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point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703440"/>
            <a:ext cx="167652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point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5884920"/>
            <a:ext cx="145080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2600" y="5867280"/>
            <a:ext cx="1450800" cy="439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ooth 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5867280"/>
            <a:ext cx="2133720" cy="439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iso. ed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rving Di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5867280"/>
            <a:ext cx="2133720" cy="439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otropic ed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rving Di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143000"/>
            <a:ext cx="380880" cy="472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106920" y="3277080"/>
            <a:ext cx="145116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6371640" y="3323160"/>
            <a:ext cx="464796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ow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93600"/>
            <a:ext cx="1905120" cy="439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ge preserving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400800"/>
            <a:ext cx="190476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lejandro Valenc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6:59:43Z</dcterms:created>
  <dc:creator>Irina</dc:creator>
  <dc:description/>
  <dc:language>en-US</dc:language>
  <cp:lastModifiedBy>Administrator</cp:lastModifiedBy>
  <dcterms:modified xsi:type="dcterms:W3CDTF">2003-10-22T17:18:32Z</dcterms:modified>
  <cp:revision>1</cp:revision>
  <dc:subject/>
  <dc:title>Slide 1</dc:title>
</cp:coreProperties>
</file>