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3327-E885-4CB6-8201-F55B446C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B690-BF6E-4B49-A3FC-A4B7062A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272E-8E48-4513-B43A-B386C957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9B38-BC37-4C6D-847F-D206360E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B145-8C82-4611-BB01-2D65318C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8813-7656-4C4F-9772-308609EC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EB60-7DF9-4AD1-872F-8063236C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FD7B-9E4D-426D-834E-2A6B1BA4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197F-8D34-4A78-91ED-22751414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8989-0F98-4C59-BA88-DA8F8787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000D-41B8-4A34-A398-6464C150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6764-D46D-435C-9562-CBE7131B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D6DD-C810-464D-82A8-221501D2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FAAD-8732-43CA-B24A-F4F20D73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FDA3-E853-4F09-8F31-D10DDD7B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143C-1711-49FA-87EC-194E40B8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FBAD-B1E4-48E6-87C3-21D45ABC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E551-33F9-4BE7-804D-3AE24E2A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7A0B-82C1-4B8B-80D3-C31F27B6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A5D2-23FD-497B-8956-5B034AC5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EB4E-220B-4A91-B633-209163C5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6AE4-F868-42D6-9C9B-07A4804F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281B-4DE7-444F-8B68-DA264A77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A760-3B91-46A3-9B3E-66555A2C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9F4E-DF74-4EA5-9113-AD8BA9A8136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1EB8-5C8B-4C50-BEB1-5A376AF1E9F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17080"/>
            <a:ext cx="9144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e02"/>
                </a:solidFill>
                <a:latin typeface="Tahoma"/>
              </a:rPr>
              <a:t>Jeff Shragge</a:t>
            </a:r>
            <a:br>
              <a:rPr sz="3200"/>
            </a:br>
            <a:r>
              <a:rPr b="1" lang="en-US" sz="3200" spc="-1" strike="noStrike">
                <a:solidFill>
                  <a:srgbClr val="040e02"/>
                </a:solidFill>
                <a:latin typeface="Tahoma"/>
              </a:rPr>
              <a:t>2</a:t>
            </a:r>
            <a:r>
              <a:rPr b="1" lang="en-US" sz="3200" spc="-1" strike="noStrike" baseline="30000">
                <a:solidFill>
                  <a:srgbClr val="040e02"/>
                </a:solidFill>
                <a:latin typeface="Tahoma"/>
              </a:rPr>
              <a:t>nd</a:t>
            </a:r>
            <a:r>
              <a:rPr b="1" lang="en-US" sz="3200" spc="-1" strike="noStrike">
                <a:solidFill>
                  <a:srgbClr val="040e02"/>
                </a:solidFill>
                <a:latin typeface="Tahoma"/>
              </a:rPr>
              <a:t> year SEP Studen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718240"/>
            <a:ext cx="91440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b10"/>
                </a:solidFill>
                <a:latin typeface="Tahoma"/>
              </a:rPr>
              <a:t>Wavefield extrapolation in phase-ray coordin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b10"/>
                </a:solidFill>
                <a:latin typeface="Tahoma"/>
              </a:rPr>
              <a:t>SEP 114, pg 31-4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44680" y="1327320"/>
            <a:ext cx="8124480" cy="4246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2T15:51:06Z</dcterms:created>
  <dc:creator>Administrator</dc:creator>
  <dc:description/>
  <dc:language>en-US</dc:language>
  <cp:lastModifiedBy>Administrator</cp:lastModifiedBy>
  <dcterms:modified xsi:type="dcterms:W3CDTF">2003-10-24T18:56:53Z</dcterms:modified>
  <cp:revision>7</cp:revision>
  <dc:subject/>
  <dc:title>Slide 1</dc:title>
</cp:coreProperties>
</file>