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658-E94E-4D7F-B5F0-FCE6BB46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76D-15E2-4A3E-9A76-08C18BD1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983-3338-43BE-80C0-29C62B5F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1B7-542D-4928-8C57-9A1D04CD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0C7B-266F-4BF3-AD93-593E68A0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8235-C8BD-4546-A128-1DAEFEF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BEA2-D89C-404D-997A-ED0E95C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EAD7-3994-44FD-9383-C1B19A8A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A03D-3471-4053-B2AF-4E5E0A1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F2F-938D-4508-9BFC-6B9A74A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2A6-D449-4A84-AFD7-EC3FD0A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AB2-D543-433C-AFBE-9A0CD22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DA95-B014-4C82-BD1F-76FC10B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387-8DB0-468D-817D-B4757B8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95B-BE6B-42D3-B837-6E833564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5F0-2FC2-44F5-993D-909447F3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42D-2195-41A0-90DF-E04973DD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59A-C183-49D4-9AF6-8EF93A4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0E4-6ACD-4015-8F43-AFDDC0F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EA5-F736-45CD-BA9E-E8FD61E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BEB-48E5-4307-871F-2C067B3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CCD-9270-4CD2-9758-6AB157A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945-4D64-45E1-9DD5-3EADAFD0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24B-BBA6-4ACB-BF33-351F9C19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72D3-DEA9-411A-B7F9-ED99958DD3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3CD1-D10F-4ADC-A95F-606F60A385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9120" y="438120"/>
            <a:ext cx="8105760" cy="5980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81480" y="1135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x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Cla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9120" y="438120"/>
            <a:ext cx="8105760" cy="598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84680" y="11350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Cla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locity Esti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6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855880" cy="218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93432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429000" y="1697040"/>
            <a:ext cx="53895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Cla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locity uncertainty #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6400" y="1600200"/>
            <a:ext cx="3340080" cy="218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64120" y="1600200"/>
            <a:ext cx="320508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58960" y="3941640"/>
            <a:ext cx="3235320" cy="2189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94440" y="3941640"/>
            <a:ext cx="2944800" cy="218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Cla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percompu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3397320" cy="45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Cla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7:07:52Z</dcterms:created>
  <dc:creator>Robert G. Clapp</dc:creator>
  <dc:description/>
  <dc:language>en-US</dc:language>
  <cp:lastModifiedBy>Trial User</cp:lastModifiedBy>
  <dcterms:modified xsi:type="dcterms:W3CDTF">2003-10-22T05:40:44Z</dcterms:modified>
  <cp:revision>7</cp:revision>
  <dc:subject/>
  <dc:title>Velocity Estimation</dc:title>
</cp:coreProperties>
</file>