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58400" cy="77724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144000"/>
            <a:ext cx="8818560" cy="1668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1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38120" y="1969560"/>
            <a:ext cx="9043920" cy="2513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8120" y="4722480"/>
            <a:ext cx="9043920" cy="2513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144000"/>
            <a:ext cx="8818560" cy="1668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1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8120" y="1969560"/>
            <a:ext cx="4413240" cy="2513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2400" y="1969560"/>
            <a:ext cx="4413240" cy="2513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38120" y="4722480"/>
            <a:ext cx="4413240" cy="2513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72400" y="4722480"/>
            <a:ext cx="4413240" cy="2513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144000"/>
            <a:ext cx="8818560" cy="1668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1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38120" y="1969560"/>
            <a:ext cx="2912040" cy="2513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6320" y="1969560"/>
            <a:ext cx="2912040" cy="2513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4160" y="1969560"/>
            <a:ext cx="2912040" cy="2513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38120" y="4722480"/>
            <a:ext cx="2912040" cy="2513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6320" y="4722480"/>
            <a:ext cx="2912040" cy="2513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54160" y="4722480"/>
            <a:ext cx="2912040" cy="2513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560" y="144000"/>
            <a:ext cx="8818560" cy="1668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1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38120" y="1969560"/>
            <a:ext cx="904392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144000"/>
            <a:ext cx="8818560" cy="1668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1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38120" y="1969560"/>
            <a:ext cx="9043920" cy="5270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144000"/>
            <a:ext cx="8818560" cy="1668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1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8120" y="1969560"/>
            <a:ext cx="4413240" cy="5270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72400" y="1969560"/>
            <a:ext cx="4413240" cy="5270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144000"/>
            <a:ext cx="8818560" cy="1668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1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28560" y="144000"/>
            <a:ext cx="8818560" cy="77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144000"/>
            <a:ext cx="8818560" cy="1668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1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38120" y="1969560"/>
            <a:ext cx="4413240" cy="2513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2400" y="1969560"/>
            <a:ext cx="4413240" cy="5270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38120" y="4722480"/>
            <a:ext cx="4413240" cy="2513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144000"/>
            <a:ext cx="8818560" cy="1668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1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8120" y="1969560"/>
            <a:ext cx="4413240" cy="5270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2400" y="1969560"/>
            <a:ext cx="4413240" cy="2513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2400" y="4722480"/>
            <a:ext cx="4413240" cy="2513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144000"/>
            <a:ext cx="8818560" cy="1668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1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8120" y="1969560"/>
            <a:ext cx="4413240" cy="2513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2400" y="1969560"/>
            <a:ext cx="4413240" cy="2513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8120" y="4722480"/>
            <a:ext cx="9043920" cy="2513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144000"/>
            <a:ext cx="8818560" cy="16686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8120" y="1969560"/>
            <a:ext cx="9043920" cy="5270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84000"/>
          </a:bodyPr>
          <a:p>
            <a:pPr marL="237240" indent="-237240">
              <a:spcBef>
                <a:spcPts val="2500"/>
              </a:spcBef>
              <a:buClr>
                <a:srgbClr val="ffff00"/>
              </a:buClr>
              <a:buSzPct val="125000"/>
              <a:buFont typeface="Book Antiqua"/>
              <a:buChar char="•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lvl="1" marL="514440" indent="-174600">
              <a:spcBef>
                <a:spcPts val="2500"/>
              </a:spcBef>
              <a:buClr>
                <a:srgbClr val="ffff00"/>
              </a:buClr>
              <a:buSzPct val="200000"/>
              <a:buFont typeface="Book Antiqua"/>
              <a:buChar char="–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lvl="2" marL="794520" indent="-158760">
              <a:spcBef>
                <a:spcPts val="2500"/>
              </a:spcBef>
              <a:buClr>
                <a:srgbClr val="ffff00"/>
              </a:buClr>
              <a:buFont typeface="Arial"/>
              <a:buChar char="–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lvl="3" marL="1112040" indent="-158760">
              <a:spcBef>
                <a:spcPts val="2500"/>
              </a:spcBef>
              <a:buClr>
                <a:srgbClr val="fafd00"/>
              </a:buClr>
              <a:buSzPct val="65000"/>
              <a:buFont typeface="Monotype Sorts" charset="2"/>
              <a:buChar char="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lvl="4" marL="1432080" indent="-158760">
              <a:spcBef>
                <a:spcPts val="2500"/>
              </a:spcBef>
              <a:buClr>
                <a:srgbClr val="cf0e30"/>
              </a:buClr>
              <a:buFont typeface="Arial"/>
              <a:buChar char="»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lvl="5" marL="1432080" indent="-158760">
              <a:spcBef>
                <a:spcPts val="2500"/>
              </a:spcBef>
              <a:buClr>
                <a:srgbClr val="ffff00"/>
              </a:buClr>
              <a:buFont typeface="Arial"/>
              <a:buChar char="»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lvl="6" marL="1432080" indent="-158760">
              <a:spcBef>
                <a:spcPts val="2500"/>
              </a:spcBef>
              <a:buClr>
                <a:srgbClr val="ffff00"/>
              </a:buClr>
              <a:buFont typeface="Arial"/>
              <a:buChar char="»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"/>
          <p:cNvSpPr/>
          <p:nvPr/>
        </p:nvSpPr>
        <p:spPr>
          <a:xfrm>
            <a:off x="679320" y="7314480"/>
            <a:ext cx="20548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anford Exploration Projec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995960" y="7314480"/>
            <a:ext cx="10947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iondo Biondi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7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1880" y="0"/>
            <a:ext cx="9329760" cy="16653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 Antiqua"/>
              </a:rPr>
              <a:t>Dinner immediately after meeting</a:t>
            </a:r>
            <a:endParaRPr b="1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09720" y="2705040"/>
            <a:ext cx="6407280" cy="4270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9000" y="930240"/>
            <a:ext cx="89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Hoffbrau Steak Hou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311 N. Market St.– Tel  (214)742-4663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0"/>
            <a:ext cx="9329760" cy="16653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 Antiqua"/>
              </a:rPr>
              <a:t>Dinner immediately after meeting</a:t>
            </a:r>
            <a:endParaRPr b="1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09720" y="2819520"/>
            <a:ext cx="6407280" cy="4270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80240" y="930240"/>
            <a:ext cx="892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Butcher Shop Steak Hou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803 Munger Ave – Tel  (214)720-103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5408" t="7037" r="7354" b="0"/>
          <a:stretch/>
        </p:blipFill>
        <p:spPr>
          <a:xfrm>
            <a:off x="3033720" y="2971800"/>
            <a:ext cx="3843360" cy="3144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5080" y="631440"/>
            <a:ext cx="8093160" cy="7952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3-D Seismic Imaging</a:t>
            </a:r>
            <a:br>
              <a:rPr sz="3600"/>
            </a:b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http://sepwww.stanford.edu/biondo/Lectures</a:t>
            </a:r>
            <a:endParaRPr b="1" lang="en-US" sz="2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07720" y="-360"/>
            <a:ext cx="8256600" cy="5922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Biondo Biondi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5408" t="7037" r="7354" b="0"/>
          <a:stretch/>
        </p:blipFill>
        <p:spPr>
          <a:xfrm>
            <a:off x="3033720" y="2971800"/>
            <a:ext cx="3843360" cy="3144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1380960"/>
            <a:ext cx="3757320" cy="3321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5080" y="631440"/>
            <a:ext cx="8093160" cy="7952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3-D Seismic Imaging</a:t>
            </a:r>
            <a:br>
              <a:rPr sz="3600"/>
            </a:b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http://sepwww.stanford.edu/biondo/Lectures</a:t>
            </a:r>
            <a:endParaRPr b="1" lang="en-US" sz="2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07720" y="-360"/>
            <a:ext cx="8256600" cy="5922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Biondo Biondi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"/>
          <p:cNvSpPr/>
          <p:nvPr/>
        </p:nvSpPr>
        <p:spPr>
          <a:xfrm>
            <a:off x="1203480" y="2246400"/>
            <a:ext cx="2971800" cy="1676160"/>
          </a:xfrm>
          <a:prstGeom prst="ellipse">
            <a:avLst/>
          </a:prstGeom>
          <a:gradFill rotWithShape="0">
            <a:gsLst>
              <a:gs pos="0">
                <a:srgbClr val="012189"/>
              </a:gs>
              <a:gs pos="50000">
                <a:srgbClr val="000f3f"/>
              </a:gs>
              <a:gs pos="100000">
                <a:srgbClr val="012189"/>
              </a:gs>
            </a:gsLst>
            <a:lin ang="5400000"/>
          </a:gra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3-D data geometri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Times New Roman"/>
              </a:rPr>
              <a:t>Missing information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5408" t="7037" r="7354" b="0"/>
          <a:stretch/>
        </p:blipFill>
        <p:spPr>
          <a:xfrm>
            <a:off x="3033720" y="2971800"/>
            <a:ext cx="3843360" cy="3144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1380960"/>
            <a:ext cx="3757320" cy="3321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25080" y="631440"/>
            <a:ext cx="8093160" cy="7952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3-D Seismic Imaging</a:t>
            </a:r>
            <a:br>
              <a:rPr sz="3600"/>
            </a:b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http://sepwww.stanford.edu/biondo/Lectures</a:t>
            </a:r>
            <a:endParaRPr b="1" lang="en-US" sz="2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07720" y="-360"/>
            <a:ext cx="8256600" cy="5922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Biondo Biondi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343320" y="4908600"/>
            <a:ext cx="3317760" cy="2863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03480" y="2246400"/>
            <a:ext cx="2971800" cy="1676160"/>
          </a:xfrm>
          <a:prstGeom prst="ellipse">
            <a:avLst/>
          </a:prstGeom>
          <a:gradFill rotWithShape="0">
            <a:gsLst>
              <a:gs pos="0">
                <a:srgbClr val="012189"/>
              </a:gs>
              <a:gs pos="50000">
                <a:srgbClr val="000f3f"/>
              </a:gs>
              <a:gs pos="100000">
                <a:srgbClr val="012189"/>
              </a:gs>
            </a:gsLst>
            <a:lin ang="5400000"/>
          </a:gra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3-D data geometri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Times New Roman"/>
              </a:rPr>
              <a:t>Missing information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98920" y="5699160"/>
            <a:ext cx="2971800" cy="1676520"/>
          </a:xfrm>
          <a:prstGeom prst="ellipse">
            <a:avLst/>
          </a:prstGeom>
          <a:gradFill rotWithShape="0">
            <a:gsLst>
              <a:gs pos="0">
                <a:srgbClr val="012189"/>
              </a:gs>
              <a:gs pos="50000">
                <a:srgbClr val="000f3f"/>
              </a:gs>
              <a:gs pos="100000">
                <a:srgbClr val="012189"/>
              </a:gs>
            </a:gsLst>
            <a:lin ang="5400000"/>
          </a:gra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5-D data space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Times New Roman"/>
              </a:rPr>
              <a:t>Too much data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5408" t="7037" r="7354" b="0"/>
          <a:stretch/>
        </p:blipFill>
        <p:spPr>
          <a:xfrm>
            <a:off x="3033720" y="2971800"/>
            <a:ext cx="3843360" cy="3144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514840" y="1452600"/>
            <a:ext cx="3802320" cy="3303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62120" y="1380960"/>
            <a:ext cx="3757320" cy="3321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25080" y="631440"/>
            <a:ext cx="8093160" cy="7952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3-D Seismic Imaging</a:t>
            </a:r>
            <a:br>
              <a:rPr sz="3600"/>
            </a:b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http://sepwww.stanford.edu/biondo/Lectures</a:t>
            </a:r>
            <a:endParaRPr b="1" lang="en-US" sz="2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7720" y="-360"/>
            <a:ext cx="8256600" cy="59220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Biondo Biondi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343320" y="4908600"/>
            <a:ext cx="3317760" cy="2863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03480" y="2246400"/>
            <a:ext cx="2971800" cy="1676160"/>
          </a:xfrm>
          <a:prstGeom prst="ellipse">
            <a:avLst/>
          </a:prstGeom>
          <a:gradFill rotWithShape="0">
            <a:gsLst>
              <a:gs pos="0">
                <a:srgbClr val="012189"/>
              </a:gs>
              <a:gs pos="50000">
                <a:srgbClr val="000f3f"/>
              </a:gs>
              <a:gs pos="100000">
                <a:srgbClr val="012189"/>
              </a:gs>
            </a:gsLst>
            <a:lin ang="5400000"/>
          </a:gra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3-D data geometri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Times New Roman"/>
              </a:rPr>
              <a:t>Missing information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89680" y="2247840"/>
            <a:ext cx="2971800" cy="1676520"/>
          </a:xfrm>
          <a:prstGeom prst="ellipse">
            <a:avLst/>
          </a:prstGeom>
          <a:gradFill rotWithShape="0">
            <a:gsLst>
              <a:gs pos="0">
                <a:srgbClr val="012189"/>
              </a:gs>
              <a:gs pos="50000">
                <a:srgbClr val="000f3f"/>
              </a:gs>
              <a:gs pos="100000">
                <a:srgbClr val="012189"/>
              </a:gs>
            </a:gsLst>
            <a:lin ang="5400000"/>
          </a:gra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Velocity analysi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Times New Roman"/>
              </a:rPr>
              <a:t>Hidden information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98920" y="5699160"/>
            <a:ext cx="2971800" cy="1676520"/>
          </a:xfrm>
          <a:prstGeom prst="ellipse">
            <a:avLst/>
          </a:prstGeom>
          <a:gradFill rotWithShape="0">
            <a:gsLst>
              <a:gs pos="0">
                <a:srgbClr val="012189"/>
              </a:gs>
              <a:gs pos="50000">
                <a:srgbClr val="000f3f"/>
              </a:gs>
              <a:gs pos="100000">
                <a:srgbClr val="012189"/>
              </a:gs>
            </a:gsLst>
            <a:lin ang="5400000"/>
          </a:gra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5-D data space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Times New Roman"/>
              </a:rPr>
              <a:t>Too much data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14840" y="1452600"/>
            <a:ext cx="3802320" cy="3303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62120" y="1380960"/>
            <a:ext cx="3757320" cy="3321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343320" y="4908600"/>
            <a:ext cx="3317760" cy="2863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203480" y="2246400"/>
            <a:ext cx="2971800" cy="1676160"/>
          </a:xfrm>
          <a:prstGeom prst="ellipse">
            <a:avLst/>
          </a:prstGeom>
          <a:gradFill rotWithShape="0">
            <a:gsLst>
              <a:gs pos="0">
                <a:srgbClr val="012189"/>
              </a:gs>
              <a:gs pos="50000">
                <a:srgbClr val="000f3f"/>
              </a:gs>
              <a:gs pos="100000">
                <a:srgbClr val="012189"/>
              </a:gs>
            </a:gsLst>
            <a:lin ang="5400000"/>
          </a:gra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3-D data geometri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Times New Roman"/>
              </a:rPr>
              <a:t>Missing information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89680" y="2247840"/>
            <a:ext cx="2971800" cy="1676520"/>
          </a:xfrm>
          <a:prstGeom prst="ellipse">
            <a:avLst/>
          </a:prstGeom>
          <a:gradFill rotWithShape="0">
            <a:gsLst>
              <a:gs pos="0">
                <a:srgbClr val="012189"/>
              </a:gs>
              <a:gs pos="50000">
                <a:srgbClr val="000f3f"/>
              </a:gs>
              <a:gs pos="100000">
                <a:srgbClr val="012189"/>
              </a:gs>
            </a:gsLst>
            <a:lin ang="5400000"/>
          </a:gra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Velocity analysi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Times New Roman"/>
              </a:rPr>
              <a:t>Hidden information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98920" y="5699160"/>
            <a:ext cx="2971800" cy="1676520"/>
          </a:xfrm>
          <a:prstGeom prst="ellipse">
            <a:avLst/>
          </a:prstGeom>
          <a:gradFill rotWithShape="0">
            <a:gsLst>
              <a:gs pos="0">
                <a:srgbClr val="012189"/>
              </a:gs>
              <a:gs pos="50000">
                <a:srgbClr val="000f3f"/>
              </a:gs>
              <a:gs pos="100000">
                <a:srgbClr val="012189"/>
              </a:gs>
            </a:gsLst>
            <a:lin ang="5400000"/>
          </a:gra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5-D data space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Times New Roman"/>
              </a:rPr>
              <a:t>Too much data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rcRect l="5408" t="7037" r="7354" b="0"/>
          <a:stretch/>
        </p:blipFill>
        <p:spPr>
          <a:xfrm>
            <a:off x="3033720" y="2971800"/>
            <a:ext cx="3843360" cy="3144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4200" y="2414520"/>
            <a:ext cx="8550000" cy="16653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 algn="ctr"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1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508040" y="4403520"/>
            <a:ext cx="70423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"/>
          <p:cNvSpPr/>
          <p:nvPr/>
        </p:nvSpPr>
        <p:spPr>
          <a:xfrm>
            <a:off x="1225440" y="631800"/>
            <a:ext cx="80931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3-D Seismic Imaging</a:t>
            </a:r>
            <a:br>
              <a:rPr sz="4400"/>
            </a:b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http://sepwww.stanford.edu/biondo/Lectur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08080" y="0"/>
            <a:ext cx="82566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080" bIns="37080" anchor="t">
            <a:noAutofit/>
          </a:bodyPr>
          <a:p>
            <a:pPr marL="282600" indent="-2826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Biondo Biond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617640" y="4649760"/>
            <a:ext cx="247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Symbol"/>
                <a:ea typeface="Symbol"/>
              </a:rPr>
              <a:t>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0680" y="60480"/>
            <a:ext cx="849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Book Antiqua"/>
              </a:rPr>
              <a:t>3-D ADCIGs (SEP 114 – pp 45)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46081" b="5274"/>
          <a:stretch/>
        </p:blipFill>
        <p:spPr>
          <a:xfrm>
            <a:off x="6848640" y="3413160"/>
            <a:ext cx="3209760" cy="3879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08160" y="888840"/>
            <a:ext cx="4132440" cy="28702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0" y="3413160"/>
            <a:ext cx="3209760" cy="3892680"/>
            <a:chOff x="0" y="3413160"/>
            <a:chExt cx="3209760" cy="3892680"/>
          </a:xfrm>
        </p:grpSpPr>
        <p:pic>
          <p:nvPicPr>
            <p:cNvPr id="86" name="" descr=""/>
            <p:cNvPicPr/>
            <p:nvPr/>
          </p:nvPicPr>
          <p:blipFill>
            <a:blip r:embed="rId3"/>
            <a:srcRect l="0" t="0" r="46081" b="5274"/>
            <a:stretch/>
          </p:blipFill>
          <p:spPr>
            <a:xfrm>
              <a:off x="0" y="3425760"/>
              <a:ext cx="3209760" cy="388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4"/>
            <a:srcRect l="55685" t="0" r="0" b="4957"/>
            <a:stretch/>
          </p:blipFill>
          <p:spPr>
            <a:xfrm>
              <a:off x="380880" y="3413160"/>
              <a:ext cx="2638080" cy="389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2T10:31:05Z</dcterms:created>
  <dc:creator>Biondo Biondi</dc:creator>
  <dc:description/>
  <dc:language>en-US</dc:language>
  <cp:lastModifiedBy>Biondo Biondi</cp:lastModifiedBy>
  <cp:lastPrinted>1999-05-08T00:09:59Z</cp:lastPrinted>
  <dcterms:modified xsi:type="dcterms:W3CDTF">2003-10-23T23:43:55Z</dcterms:modified>
  <cp:revision>115</cp:revision>
  <dc:subject/>
  <dc:title>SEP 96</dc:title>
</cp:coreProperties>
</file>