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EF9-C181-4593-9438-4FBDD48E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A06-65A8-4652-B6C8-8D1B5EB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D0E-0E9F-4DE6-B92D-54FE09F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6BE-7D33-40F3-A3F1-D394774B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167-312B-4FB1-A337-3D6C10D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317-0441-459F-BEE0-C190DA99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E86-52C5-443F-A197-FC0850C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718-72DC-4CAA-A5F8-06159B6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A1D-14D2-441E-9C85-F84E3CD6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6CE-4CC5-4D05-AE86-6724F67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B8A-E4BC-4AE0-A6DA-A21ACEB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66B-1011-48C5-B425-14A09992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C1C8-330C-42D8-8442-8700D655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oan Vlad: applying WEMVA to focusing-effect A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285640"/>
            <a:ext cx="2438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on syn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perturb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(x,z,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8332" t="4537" r="1190" b="10441"/>
          <a:stretch/>
        </p:blipFill>
        <p:spPr>
          <a:xfrm>
            <a:off x="3200400" y="22860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59:26Z</dcterms:created>
  <dc:creator>Robert Clapp</dc:creator>
  <dc:description/>
  <dc:language>en-US</dc:language>
  <cp:lastModifiedBy>Robert Clapp</cp:lastModifiedBy>
  <dcterms:modified xsi:type="dcterms:W3CDTF">2003-10-16T22:23:05Z</dcterms:modified>
  <cp:revision>2</cp:revision>
  <dc:subject/>
  <dc:title>Ioan Vlad: applying WEMVA to </dc:title>
</cp:coreProperties>
</file>