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CEB-0AFC-429D-93FA-0EFF8F81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0C1-5C52-4E76-BAA0-DBFB130D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A91-FA74-4BFA-AF46-56A30C09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34C-DE28-4F4F-88DA-0AD627D6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979-CE98-4D74-9795-7FC3824E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808-8145-483C-BE54-FFE2842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35E-1051-4D52-9726-7EF1EB78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94D-21C9-412B-8A0A-1BF96FF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93A-8376-4F93-8005-5354068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070-4A7A-4EF2-ACC6-427191B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1E8-8606-4583-BFC2-FC4BDE0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AE0-887D-437E-AA58-4E1F31D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03F7-6880-4679-A0B0-66BC8A528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5092560"/>
            <a:ext cx="1600200" cy="677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34320" y="5022720"/>
            <a:ext cx="1220760" cy="77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YAN DRAGANOV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st year PhD student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p of Prof. Kees Wapena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U Delft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2057400" cy="95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743200" y="31240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6000"/>
                  </a:srgbClr>
                </a:solidFill>
                <a:latin typeface="Arial Black"/>
              </a:rPr>
              <a:t>PASSIVE SEISM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6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s.draganov@citg.tudelft.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s.draganov@citg.tudelft.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30492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6000"/>
                  </a:srgbClr>
                </a:solidFill>
                <a:latin typeface="Arial Black"/>
              </a:rPr>
              <a:t>PASSIVE SEISM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6000"/>
                </a:srgbClr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1371600"/>
                <a:ext cx="683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11280" y="1879560"/>
                <a:ext cx="6248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d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2514600"/>
            <a:ext cx="2631960" cy="377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632320" cy="378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84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2:49Z</dcterms:created>
  <dc:creator>Robert Clapp</dc:creator>
  <dc:description/>
  <dc:language>en-US</dc:language>
  <cp:lastModifiedBy>Robert Clapp</cp:lastModifiedBy>
  <dcterms:modified xsi:type="dcterms:W3CDTF">2003-10-20T18:51:27Z</dcterms:modified>
  <cp:revision>11</cp:revision>
  <dc:subject/>
  <dc:title>Slide 1</dc:title>
</cp:coreProperties>
</file>