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969F-7CF3-47EA-8FBA-ECA0BE9A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EE58-0F65-4243-A679-A0819BB5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CA8A-1458-441F-BF84-799B1769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7233-7CC3-42AE-BFCB-E24002E5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5D4B-05A4-4D52-94A5-AA7D145C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A580-F7B1-4D23-B8B8-27A60849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9602-EB2B-4513-9C43-9813BF18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92D4-4159-47E8-A5E8-2656DF4E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7E0A-41D3-4A9D-8DA8-0794ACFD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0C55-CE3B-477B-870E-F6875927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0FF3-BBFD-4618-A287-6618189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C48E-FA84-4945-A5D1-A7585F91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38F0-6E28-4879-B4F3-051B08F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6CD-A51A-42E5-AAF1-5D3B5BD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F385-B4F2-41B1-89B1-C23A08FA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B216-14C2-4750-AA9A-9C30677D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7BD3-9335-4E35-8738-10E5CFC1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D47D-E028-4A53-8CFE-57BC573D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9A30-01EB-4AEA-97FE-21E2D07A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9BD2-6C2E-493F-A961-B28C1D8D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BA23-124B-4346-B2C6-32D31E72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B3C1-8A5A-4BE5-B6CD-52B3CB95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8F3D-44B2-40A5-A477-B8ED031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0EE8-90FC-4F09-9F15-96C86C6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9590-C0A7-4972-BBBE-532D40036FB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606C-10BC-4778-BB92-0F6FD41FC0D9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62560" y="-360"/>
            <a:ext cx="1981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ie Cla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0960" y="685800"/>
            <a:ext cx="542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aging under salt edg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locity sensi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81080" y="2362320"/>
                <a:ext cx="51688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23240" y="34290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=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2760" y="3429000"/>
            <a:ext cx="13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=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160" y="4114800"/>
            <a:ext cx="57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’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= downward continuation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5320" y="4815000"/>
            <a:ext cx="40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= regularization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80640" y="4616280"/>
            <a:ext cx="67507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is a derivative-type filter that 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rizontally along the 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xis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ing there is no move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61840" y="1066680"/>
            <a:ext cx="7139160" cy="2819520"/>
            <a:chOff x="861840" y="1066680"/>
            <a:chExt cx="7139160" cy="2819520"/>
          </a:xfrm>
        </p:grpSpPr>
        <p:sp>
          <p:nvSpPr>
            <p:cNvPr id="114" name=""/>
            <p:cNvSpPr/>
            <p:nvPr/>
          </p:nvSpPr>
          <p:spPr>
            <a:xfrm>
              <a:off x="1143000" y="1143000"/>
              <a:ext cx="2743200" cy="2743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57800" y="1143000"/>
              <a:ext cx="2743200" cy="2743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198108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68880" y="15238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Times New Roman"/>
                </a:rPr>
                <a:t>L’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77920" y="24829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7680" y="2482920"/>
              <a:ext cx="56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1840" y="25812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30960" y="1386000"/>
              <a:ext cx="93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M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63520" y="10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38840" y="25812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22080" y="1386000"/>
              <a:ext cx="8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R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90040" y="10666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391520" y="1904760"/>
              <a:ext cx="533160" cy="5331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11680" y="2178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038480" y="289548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8880" y="24382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476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570560" cy="477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75400" y="53352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 velo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7280" y="11430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99160" y="113364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sion (3 it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1523880"/>
            <a:ext cx="9144000" cy="4953240"/>
            <a:chOff x="0" y="1523880"/>
            <a:chExt cx="9144000" cy="4953240"/>
          </a:xfrm>
        </p:grpSpPr>
        <p:sp>
          <p:nvSpPr>
            <p:cNvPr id="136" name=""/>
            <p:cNvSpPr/>
            <p:nvPr/>
          </p:nvSpPr>
          <p:spPr>
            <a:xfrm>
              <a:off x="0" y="1523880"/>
              <a:ext cx="380880" cy="480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523880"/>
              <a:ext cx="380880" cy="480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" y="5943600"/>
              <a:ext cx="449568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320" y="5943600"/>
              <a:ext cx="449568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7720" y="3962520"/>
            <a:ext cx="8736840" cy="2408400"/>
            <a:chOff x="117720" y="3962520"/>
            <a:chExt cx="8736840" cy="2408400"/>
          </a:xfrm>
        </p:grpSpPr>
        <p:sp>
          <p:nvSpPr>
            <p:cNvPr id="141" name=""/>
            <p:cNvSpPr/>
            <p:nvPr/>
          </p:nvSpPr>
          <p:spPr>
            <a:xfrm>
              <a:off x="117720" y="3962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9720" y="3962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6040" y="5791320"/>
              <a:ext cx="8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R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8040" y="5791320"/>
              <a:ext cx="8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R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4120" y="578160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91960" y="579132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0560" cy="4771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0560" y="1671480"/>
            <a:ext cx="4570200" cy="4772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17840" y="53352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locity 5% too hi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67280" y="11430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99160" y="113364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sion (3 it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1523880"/>
            <a:ext cx="9144000" cy="4953240"/>
            <a:chOff x="0" y="1523880"/>
            <a:chExt cx="9144000" cy="4953240"/>
          </a:xfrm>
        </p:grpSpPr>
        <p:sp>
          <p:nvSpPr>
            <p:cNvPr id="153" name=""/>
            <p:cNvSpPr/>
            <p:nvPr/>
          </p:nvSpPr>
          <p:spPr>
            <a:xfrm>
              <a:off x="0" y="1523880"/>
              <a:ext cx="380880" cy="480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1523880"/>
              <a:ext cx="380880" cy="480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5943600"/>
              <a:ext cx="449568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8320" y="5943600"/>
              <a:ext cx="449568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7720" y="3962520"/>
            <a:ext cx="8736840" cy="2408400"/>
            <a:chOff x="117720" y="3962520"/>
            <a:chExt cx="8736840" cy="2408400"/>
          </a:xfrm>
        </p:grpSpPr>
        <p:sp>
          <p:nvSpPr>
            <p:cNvPr id="158" name=""/>
            <p:cNvSpPr/>
            <p:nvPr/>
          </p:nvSpPr>
          <p:spPr>
            <a:xfrm>
              <a:off x="117720" y="3962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89720" y="3962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6040" y="5791320"/>
              <a:ext cx="8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R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8040" y="5791320"/>
              <a:ext cx="8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R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4120" y="578160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91960" y="579132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15:35Z</dcterms:created>
  <dc:creator>Marie Clapp</dc:creator>
  <dc:description/>
  <dc:language>en-US</dc:language>
  <cp:lastModifiedBy>Marie Clapp</cp:lastModifiedBy>
  <dcterms:modified xsi:type="dcterms:W3CDTF">2003-10-21T03:23:39Z</dcterms:modified>
  <cp:revision>19</cp:revision>
  <dc:subject/>
  <dc:title>Marie Clapp</dc:title>
</cp:coreProperties>
</file>