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2E2-6B36-4901-8363-7D71FA1F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8D6-DD63-4977-9F15-ABC0B78E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C4C-0296-427C-8244-9490CEEB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D26-E3A3-4A25-B882-FCB596F7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9E1-C0DF-463B-B4BC-EB540804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C6B-0512-4CB7-ABFA-0CC45AA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71E-2211-4E19-9381-F4D103F1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433-FFEB-440E-83DF-BDC2620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020-CF07-4564-9438-324FB2D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FD7-C3A6-444F-9F76-110965A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468-7C10-444F-9236-94C9CF6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2FB-0135-4FCB-81D9-A58816B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1D90-0934-4989-AB6F-623251BB1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vin Wolf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year SEP student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Honors B.Sc. From the University of Waterloo, 2001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Experienc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eological Survey of Canada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high resolution seismic data processing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mperial Oil Resources Ltd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assive seismic monitoring system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eophysical  Applications Processing Services Ltd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ata acquisition, high resolution processing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Interes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ismic imaging, rock physics and applications to oil industry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5181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201132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6880" y="5334120"/>
            <a:ext cx="3821400" cy="134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133640" cy="139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62920" y="380880"/>
            <a:ext cx="167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1:36:39Z</dcterms:created>
  <dc:creator>Kevin Wolf</dc:creator>
  <dc:description/>
  <dc:language>en-US</dc:language>
  <cp:lastModifiedBy>Kevin Wolf</cp:lastModifiedBy>
  <dcterms:modified xsi:type="dcterms:W3CDTF">2003-10-22T17:08:30Z</dcterms:modified>
  <cp:revision>5</cp:revision>
  <dc:subject/>
  <dc:title>Kevin Wolf</dc:title>
</cp:coreProperties>
</file>